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28.jpeg" ContentType="image/jpeg"/>
  <Override PartName="/ppt/media/image34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12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154F-537B-4423-AB12-675D08FE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ED81-019B-430C-A459-5DA50A77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6868-471B-428A-9457-986809803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FA71-98DB-42DE-AC21-4F6CD8D3C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F0C9-7260-4535-A67F-FD7C7AD5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4AFA-42E3-44B5-A77A-E6D62B4B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08DC-4433-46C0-BABD-CE59F823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B0CE-0DA2-4F94-92DE-2139DF9B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F2FA-886A-4337-A41F-1780E1B8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17E4-7D21-41C7-B58E-A52BCE00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0BF5-B42A-458E-BCB2-E2F0E550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32F2-E161-4F4B-96EF-60D5E8D9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59EF-E174-4AB8-A58A-2B00CB1B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2251-E1E7-4E6D-AF18-2BFECB44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BE0D-24C2-44FD-BE09-8B96B9DB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DD2B-724B-420A-8F31-DBF5677B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F3F9-18D2-432A-A954-9213F112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0DB5-9D3C-46C8-B4D8-5E52CA8A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670C-3D26-4331-9716-A89DEF51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5BCA-0983-4858-92B9-0F87D1D1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08FF-F2AA-40E8-B14F-F794B711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45F3-6FFB-4C79-BCDB-78BB56AE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0249-72D0-4E0A-8F26-3B1FBFF8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CC05-D5A3-416F-9B4A-04806287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7621-DC09-476D-97DC-6D3E807C8C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9BD7-B9EE-46F8-BFF4-9C599DA222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riverforksimports.com/item/KRS269A_stuart_chippendale_arm_chair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riverforksimports.com/item/KRS216_heavy_carved_chippendale_stool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eenet.buffalo.edu/bah/f/fdesigners/chipp/mirr/source/1.html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www.chicknoski.com/pages/15_big.htm" TargetMode="External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spacify.com/ShowProduct.asp?dept_id=194&amp;parent_id=512&amp;pf_id=VitMini.053" TargetMode="External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spacify.com/ShowProduct.asp?dept_id=141&amp;parent_id=10&amp;pf_id=171" TargetMode="External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ollectorcafe.com/" TargetMode="External"/><Relationship Id="rId2" Type="http://schemas.openxmlformats.org/officeDocument/2006/relationships/hyperlink" Target="http://www.harewood.org/chippendale" TargetMode="External"/><Relationship Id="rId3" Type="http://schemas.openxmlformats.org/officeDocument/2006/relationships/hyperlink" Target="http://www.queenanne-colonial-windsorchairs.com/" TargetMode="External"/><Relationship Id="rId4" Type="http://schemas.openxmlformats.org/officeDocument/2006/relationships/hyperlink" Target="http://www.ah.bfn.org/" TargetMode="External"/><Relationship Id="rId5" Type="http://schemas.openxmlformats.org/officeDocument/2006/relationships/hyperlink" Target="http://www.designmuseum./org/design/marcel-breuer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Furniture Styles </a:t>
            </a: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using 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0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4724280"/>
            <a:ext cx="13716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omas Chippenda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binet maker Thomas Chippendale, published his furniture designs in a book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"The Gentleman and Cabinet Maker's Direct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" in 1754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Chippendale style can be classified into three types: French influence, Chinese influence, and Gothic influ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e United States, the Chippendale style was a more elaborate development of the Queen Anne style with cabriole legs and </a:t>
            </a: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claw and ball foo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 well known piece of Chippendale furniture is the camelback sof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ir with claw-ball foot and intricate carved back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t s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STUART CHIPPENDALE ARM CHAI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3276720"/>
            <a:ext cx="2438280" cy="25905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HEAVY CARVED CHIPPENDALE STOO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53080" y="3581280"/>
            <a:ext cx="2057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aw and ball leg/foo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447920" y="2971800"/>
            <a:ext cx="2305080" cy="30481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5638680" y="2971800"/>
            <a:ext cx="1762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ippendale had many ornate and elaborately carved piec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3581280"/>
            <a:ext cx="1447920" cy="2286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IMAGE rdcat_6-8-9911.jpg"/>
          <p:cNvPicPr/>
          <p:nvPr/>
        </p:nvPicPr>
        <p:blipFill>
          <a:blip r:embed="rId3"/>
          <a:stretch/>
        </p:blipFill>
        <p:spPr>
          <a:xfrm>
            <a:off x="4648320" y="3200400"/>
            <a:ext cx="32763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ter years showed the style with straight legs and a Chinese infl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IMAGE rdcat_6-8-9925.jpg"/>
          <p:cNvPicPr/>
          <p:nvPr/>
        </p:nvPicPr>
        <p:blipFill>
          <a:blip r:embed="rId1"/>
          <a:stretch/>
        </p:blipFill>
        <p:spPr>
          <a:xfrm>
            <a:off x="1447920" y="3657600"/>
            <a:ext cx="2104920" cy="20289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191120" y="3200400"/>
            <a:ext cx="38862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mel-back sof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581360" cy="27050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3352680"/>
            <a:ext cx="28191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rcel Breuer (Bauhaus)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oup of German designers in early 1900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ilosophy was </a:t>
            </a: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“Form follows function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meaning that furniture should be designed for the purpose intend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Marcel Breu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signs became known as International Style and continue to be produced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rniture used Chrome-plated tubing fo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ats and backs were made of canvas, wood, cane, or leath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reuer’s desig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ssily chair (1925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sca chai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1928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3200400"/>
            <a:ext cx="2438640" cy="22860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Cesca Chair"/>
          <p:cNvPicPr/>
          <p:nvPr/>
        </p:nvPicPr>
        <p:blipFill>
          <a:blip r:embed="rId3"/>
          <a:stretch/>
        </p:blipFill>
        <p:spPr>
          <a:xfrm>
            <a:off x="5257800" y="3809880"/>
            <a:ext cx="28954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Furniture Fac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be legally classified as an antique the furniture piece needs to be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10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ears o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clectic style is mixing different furniture styles from different time peri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signs cont….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uminum chaise, 1935-36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Aluminium chaise longue, 1935-36&#13;&#10;Marcel Breuer&#13;&#10;© P. Harholdt"/>
          <p:cNvPicPr/>
          <p:nvPr/>
        </p:nvPicPr>
        <p:blipFill>
          <a:blip r:embed="rId1"/>
          <a:stretch/>
        </p:blipFill>
        <p:spPr>
          <a:xfrm>
            <a:off x="685800" y="2362320"/>
            <a:ext cx="2590920" cy="17888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9920" y="2438280"/>
            <a:ext cx="2361960" cy="29718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Dining Table, 1936&#13;&#10;Marcel Breuer&#13;&#10;&#13;&#10;"/>
          <p:cNvPicPr/>
          <p:nvPr/>
        </p:nvPicPr>
        <p:blipFill>
          <a:blip r:embed="rId4"/>
          <a:stretch/>
        </p:blipFill>
        <p:spPr>
          <a:xfrm>
            <a:off x="990720" y="4419720"/>
            <a:ext cx="213336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rank Lloyd Wr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ed the </a:t>
            </a: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ORGANI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style. Designed to complement natural surround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lieved that furniture should fit easily and naturally into the hom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rniture was created specifically for each h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rniture was geometric shapes and           flat su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7467480" y="4419720"/>
            <a:ext cx="142884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right’s Furnit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" descr="Dana-Thomas Extension Table"/>
          <p:cNvPicPr/>
          <p:nvPr/>
        </p:nvPicPr>
        <p:blipFill>
          <a:blip r:embed="rId1"/>
          <a:stretch/>
        </p:blipFill>
        <p:spPr>
          <a:xfrm>
            <a:off x="609480" y="1752480"/>
            <a:ext cx="2971800" cy="20401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Dana-Thomas Large Arm and Side Chair"/>
          <p:cNvPicPr/>
          <p:nvPr/>
        </p:nvPicPr>
        <p:blipFill>
          <a:blip r:embed="rId2"/>
          <a:stretch/>
        </p:blipFill>
        <p:spPr>
          <a:xfrm>
            <a:off x="5257800" y="2133720"/>
            <a:ext cx="2733840" cy="23144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The Barrel Chair by Frank Lloyd Wright"/>
          <p:cNvPicPr/>
          <p:nvPr/>
        </p:nvPicPr>
        <p:blipFill>
          <a:blip r:embed="rId3"/>
          <a:stretch/>
        </p:blipFill>
        <p:spPr>
          <a:xfrm>
            <a:off x="3276720" y="3962520"/>
            <a:ext cx="1628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600200" cy="46479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4114800" y="1828800"/>
            <a:ext cx="1676520" cy="37720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762120" y="2133720"/>
            <a:ext cx="28098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alling Water  193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general.jpg (94774 bytes)"/>
          <p:cNvPicPr/>
          <p:nvPr/>
        </p:nvPicPr>
        <p:blipFill>
          <a:blip r:embed="rId1"/>
          <a:stretch/>
        </p:blipFill>
        <p:spPr>
          <a:xfrm>
            <a:off x="2666880" y="2514600"/>
            <a:ext cx="4095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ources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Housing Decisio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ages 332-34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Housing and Interior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ages 576-5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www.collectorcafe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www.harewood.org/chippend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www.queenanne-colonial-windsorchair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www.ah.bfn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www.designmuseum./org/design/marcel-breu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franklloydwrigh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andstead.com/images/fallingw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pyright ©2007, ABCD, All rights reserv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Queen An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d after Queen Anne of England who reigned from 1702-1714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is characterized by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cabriol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leg: a curved leg with out-curved knee and incurved ankle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foot may be a club, a claw-and-ball, a paw or scroll, and there may be a carved ornament on the knee such as the scallop shell or the lion mot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abriole Le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Cabriole Legged Table"/>
          <p:cNvPicPr/>
          <p:nvPr/>
        </p:nvPicPr>
        <p:blipFill>
          <a:blip r:embed="rId1"/>
          <a:stretch/>
        </p:blipFill>
        <p:spPr>
          <a:xfrm>
            <a:off x="1295280" y="2971800"/>
            <a:ext cx="3124440" cy="27068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Queen Anne Highboy"/>
          <p:cNvPicPr/>
          <p:nvPr/>
        </p:nvPicPr>
        <p:blipFill>
          <a:blip r:embed="rId2"/>
          <a:stretch/>
        </p:blipFill>
        <p:spPr>
          <a:xfrm>
            <a:off x="5181480" y="2590920"/>
            <a:ext cx="29718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Japanning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was a popular varnish used that gave the surface of the furniture a glossy black or any other color fini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914400" y="3429000"/>
            <a:ext cx="2035080" cy="274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3505320" y="361008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5562720" y="3276720"/>
            <a:ext cx="24667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wo popular chair styles copied today that were us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Wing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Chai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(upholstered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Winds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Chai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(non-upholstered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at back Chai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152.jpg (6635 bytes)"/>
          <p:cNvPicPr/>
          <p:nvPr/>
        </p:nvPicPr>
        <p:blipFill>
          <a:blip r:embed="rId1"/>
          <a:stretch/>
        </p:blipFill>
        <p:spPr>
          <a:xfrm>
            <a:off x="1143000" y="2895480"/>
            <a:ext cx="3124080" cy="24386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158A.gif (23774 bytes)"/>
          <p:cNvPicPr/>
          <p:nvPr/>
        </p:nvPicPr>
        <p:blipFill>
          <a:blip r:embed="rId2"/>
          <a:stretch/>
        </p:blipFill>
        <p:spPr>
          <a:xfrm>
            <a:off x="5638680" y="2590920"/>
            <a:ext cx="2152800" cy="29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ngback Chai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Queen Anne Chair"/>
          <p:cNvPicPr/>
          <p:nvPr/>
        </p:nvPicPr>
        <p:blipFill>
          <a:blip r:embed="rId1"/>
          <a:stretch/>
        </p:blipFill>
        <p:spPr>
          <a:xfrm>
            <a:off x="6858000" y="2133720"/>
            <a:ext cx="1743120" cy="27525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228600" y="3048120"/>
            <a:ext cx="1438200" cy="24858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2286000" y="2362320"/>
            <a:ext cx="1495440" cy="20574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2133720" y="4572000"/>
            <a:ext cx="154296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ndsor Chair with sla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2057400" cy="28195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Windsor chair"/>
          <p:cNvPicPr/>
          <p:nvPr/>
        </p:nvPicPr>
        <p:blipFill>
          <a:blip r:embed="rId2"/>
          <a:stretch/>
        </p:blipFill>
        <p:spPr>
          <a:xfrm>
            <a:off x="3200400" y="2590920"/>
            <a:ext cx="2152800" cy="3257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Fan-Back Windsor Side Chair"/>
          <p:cNvPicPr/>
          <p:nvPr/>
        </p:nvPicPr>
        <p:blipFill>
          <a:blip r:embed="rId3"/>
          <a:stretch/>
        </p:blipFill>
        <p:spPr>
          <a:xfrm>
            <a:off x="6629400" y="2514600"/>
            <a:ext cx="2133720" cy="3191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7:07:17Z</dcterms:created>
  <dc:creator>s.brooks</dc:creator>
  <dc:description/>
  <dc:language>en-US</dc:language>
  <cp:lastModifiedBy>s.brooks</cp:lastModifiedBy>
  <dcterms:modified xsi:type="dcterms:W3CDTF">2009-03-17T17:39:24Z</dcterms:modified>
  <cp:revision>25</cp:revision>
  <dc:subject/>
  <dc:title>Furniture Styles  </dc:title>
</cp:coreProperties>
</file>